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1298-2D03-4693-BCC4-29F2B378E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EB2E-28B1-4A79-905D-AE16FE4CA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7F27F7-EB87-4563-9B1B-EC6432D21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023CDC-BBD3-4AB5-A7A3-58F45677F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4278A5-1F50-49BF-BB8D-19AA8E604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A40805-0536-41C3-810C-D957FBC06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167632-F60F-44C0-A844-2667C149F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5D2E21-1876-4DEC-BAFA-F1FDE3A13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C07F61-D638-47A2-BDB8-E6C6C6C04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355214-E733-4B70-804D-0B9BF48E7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F7D760-613F-4C12-9D1D-EA13C9B43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4839CD-5AD4-44F9-8BDF-725AF6885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1B62-EE0E-45A5-943B-D82A3C71B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2E1400-7D7E-4B68-B641-033D74E98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2C159B-8D22-4983-BC40-0E62AA613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DC82CC-3B26-47CA-8BF6-86426B1DA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AF388C-5E1B-4388-8DAD-3382FBA13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D1B064-79E4-4965-8758-24F4E06E4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23C455-A12A-48AF-B550-45F4B4285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7701DC-FFFE-4D52-B933-715B02919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E92F96-EB48-46CE-8701-ED5CBBF9D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2A3CD9-D76A-4ABF-8F0B-8E13A3976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ED40B8-456C-482C-A009-3989A193B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3992-0DC2-498A-BFAB-327C54908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3E1561-2F27-4F44-9736-9648818C4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410C20-AC94-4665-8835-FE1088B5C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508666-63F8-4FEF-8F8F-EB9DB9ED4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40D9B1-54E7-4121-8A17-D3077B47B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3D7A71-76DF-4786-89DA-EA7AD9596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E93047-F0D8-4337-ACFA-7F02A062C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7CAB3B-6AFD-42A1-968C-D977621F5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A5D490-ECBA-464F-9AED-48987EB1D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11391A-E4E3-4ACD-B27D-B37783005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8266A5-EB91-4DBF-A82E-F36164786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8B6E3-2A81-45E6-8E27-C24502981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44EF66-1993-49D4-8CD3-AC6818CBD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F9FDFE-C2D2-482C-BFA3-94F184A3B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5A45F6-F00B-4B15-8A5F-CF6F12B7F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E5FFF3-85A3-409B-A08E-B893A33CA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3C9009-0A3E-40A4-8478-CB65F2065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2560BD-9D5D-4C25-B595-10E9CC60D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971F3F-AD03-43FA-B886-6A0D92D83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33D24A-4F06-4909-96EB-6D3203A08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FE5046-6C78-4B6C-8A10-8AC0BF9B9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E00E1F-CCAB-4123-9743-8C69821C8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BDB3B-F435-42D3-BB37-DD8FFFD8A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DAB9C3-6DFE-47D6-9BEF-A269CF42B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96ACA2-3954-4021-BC6C-118EB0B9E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4126D5-00C1-4826-A602-D5F7897C8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887B18-F87F-4BEC-8F79-8308DF2FA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9DD2AB-8EA7-4F01-AD4F-79FDC4961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C6AFE4-E54F-4AC6-AACF-866333F01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1968AF-C2AB-4537-B020-9BAEC0050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E4329F-F4B7-4722-B574-BD04EA887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177703-8405-4C6E-90AC-A7BBCEA31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AD26DA-EFAB-4491-838C-0D2B042D2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9A704-9C33-45CE-B6C4-FB8F4CBFF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948F66-E083-4C9D-8C98-AA96E63D3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1B92BD-77B6-4E0E-9520-849F27EEC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00CF1D-8600-4004-B509-42DF8E642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2DF973-DD0F-4515-8279-5F53F3776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457D3E-369C-43AD-B386-C4C4B2244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A8C690-64D5-4AA4-A3A6-ACE6207F0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47A21B-FA83-4B98-8535-2A026E5E2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A95EF7-0DC3-454F-8E89-C042C205D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4804BC-4F15-4933-AFDF-B194F780E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4F4D5E-4505-4B4A-ACBB-60FDE0FE7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4778F-A208-48AE-8A56-0902BE331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678DCB-6705-47B0-A336-E5013316E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C4DAAE-66FF-47EA-BC19-C29BAF807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A6F826-EB6E-4667-8532-C2DA0E84F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32E5EE-C704-436A-ACD5-DD976D611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AD4687-BB6A-4583-B2C0-DAC16CC60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792264-FC05-4978-9973-1E92D986A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B5768A-808F-45FE-8906-D9E91C0BE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EDB04F-60F4-4260-A598-9C1FFA688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7869E7-0612-421A-BB76-40A4B8BEC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31EE8B-01A4-4480-9107-3B03D6CBA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5B7AA-88D9-463E-965A-06027F475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7CC62C-1D30-41B1-B75B-7F5578EC1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40D8DD-E3BC-4230-9D03-19F9943C2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F6B56E-A5B1-4FC7-AE6A-62CC03636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6643D4-F6C7-4CCD-AC5D-4F68883E8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90174D-28B5-458E-8B0B-6F0870DF1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F4B89C-C865-44F7-9D78-2D5DB426C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4DF8EC-E3E6-4F0F-9D80-CF05880B2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DCD6AC-EDDB-416C-A5B8-85E0F5D48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FE06C6-EBDB-4D9C-AB03-A4D2FBAFD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B3C1DC-459D-4A4D-AF22-0A8D06981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33E5F-D03B-496B-8DF7-B80FC9192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102AC4-FE03-4E41-B7CB-835C77365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472E49-514F-491A-B306-EBB278894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907003-8469-40AD-929B-512080AE4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A253BF-9421-4C3F-9CA5-41C78CF33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1447EF-63EF-4C9C-ACF4-F849BEB86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126256-A317-429F-8A13-AB5BE42B3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E7C99D-A21B-4B18-9778-60D0516CE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F80135-5BB1-4841-B9C0-E65843941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1F4553-686E-4E3E-8B7D-1E1C12078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373AFD-FE6A-450F-BAFE-CC3477931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25DC0-AAD4-4203-98C7-1A511368B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AA74FB-1E02-43C7-844A-758286199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11C1DE-4ECF-40C4-935F-67FB7DBE0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9A9719-5F8B-4EEB-8B30-54A550DE2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028BDF-2C82-4235-B667-FE17B4621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E087D6-3D17-4C92-9D5C-8E7315F5D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09A267-EC01-4613-9956-05A2BC657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CDAF1A-B9DD-4C09-B13D-74E02B182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FCEB07-07B6-4D44-BA92-7B8A43F34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01EFBE-600B-485A-B2F1-34E82032A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1774DA-DDCB-4E2C-A2F3-CF5CC01D5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6B53-A7ED-45A5-BEDF-A9908F8B2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01044-6813-4C6B-8A2A-02BE5FF76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C33834-8EFC-4CA7-A0A1-0D016AC6F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F372B1-18E1-43F4-B0F4-887673B07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08C47A-408E-4858-9CF7-026C0BF57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7C84AF-F1E6-4B8B-85CB-53A51F55B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7DD40A-8488-4B96-90FD-E31669A8D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46E526-7189-477D-A8EC-9E7D8CD90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7AA14C-3973-4617-90D9-C0AEC135D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C6AC20-67D9-43D4-9139-B91DF2015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74721F-2CA6-4A60-8980-410A2848F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2A5BF4-D4AC-456A-A093-FEBFAF132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37195-EC5C-4641-BEFD-652D82DBA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F000DD-E603-4C23-BA07-8E8FF10D9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3A086C-56CD-4D15-B08C-ED836AED4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0A0E9F-CB33-4DFD-B239-E9A8761A9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3DC53C-E0E8-4120-9457-78A5E3DA4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988086-4A6D-4BAA-B98F-890E52AE2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1D5F8C-3C92-4FCD-879A-EF4BCE251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DF8D47-919F-4E24-BD74-77A48BC10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CCECB4-DCE8-428E-9191-D99951DE8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461243-6AB7-429E-9320-D12AA784D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8F7A24-C79A-4D01-88D2-7B70D4B27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207E6-FF50-4361-A15F-94C34B0D3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A3CE1C-7C62-4C69-B153-50642C3DE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E70639-FC02-4BE8-96A9-D70C62309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C5D82A-A540-49FB-B753-0C256A312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2095E2-2D49-4F86-B74C-2BBC31DA6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9DA1CC-A4B9-4AB5-81B2-A89FC857D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1AF323-08E3-45B0-BA73-6C312FF87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394D52-739C-4586-9FFE-010D0CB99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BFBAB4-0B28-4907-998C-3BCBA8AA3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17AC08-42FE-44DE-B94B-47B740F18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215AE7-34DD-4BDA-AA7D-6E7943D19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AF974-E942-4AE8-A17B-C79066E94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BC374E-D612-4A7F-A257-57F1552BE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195FA1-E570-4A48-ADFB-3C057702E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F7812A-940A-4237-A43B-A5FA0839D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231AB6-17F4-42ED-9EE4-C2B6293E4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0DAB4E-EF63-4B27-BC80-008B0482D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FDCBFA-F5C9-46DE-BD04-E54455A08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457910-3B7F-4C48-85A2-ECA277EC2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C4CA50-438B-4E47-B116-BE27D3234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EDDD99-B130-48B4-997E-DF03563E4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8FB15B-7162-4638-8E47-0A216F701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CDD9F-78E3-4F67-9ED1-E41BA392F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AD165C-A094-4EE5-8BD1-24F0E3928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A5728E3-7840-4769-B742-18A61B126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6FC3482-1455-4957-B130-454E4322C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B417E2A-F2CB-4F74-A212-49CF7C2A6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33AAA8-0CE9-433C-A16E-D33AE02A9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5317390-B6D6-4BF6-B96C-98DB231BD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FE07749-2530-4982-8675-B1372C34A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7A5D9C0-0DA9-47CE-BFBA-5AD484959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F55A60-570F-4D9C-AF48-723A10E67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37219AB-00B9-4C9C-9032-E5E436338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95565-ADFA-41AE-BCB1-836E8FF77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22FD97F-04E0-40FA-8E61-1362A4DC3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7E34ED2-1986-4C1F-BEF1-C3B3D1BB4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8C086D9-7D34-40AF-B3FD-6E41A8B58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0EEA8-E9BA-4BFA-AF94-C730719F8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B00A6-4361-4327-A464-400736774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FC7E2-BD2A-42FF-B6B0-4928AA126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0B0FF-A26D-45D5-8D14-602B05770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80B6-B365-4EA7-8DB2-1F1823540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F43DC-1A3A-480A-81FC-D6E2A6C8B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AC851-0F42-45B3-843F-89144E617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B38D3-2EFB-4BFA-A27C-931E84E6A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DC826-64FF-4FE1-B840-C43867245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8F21E-E71D-4772-A8A2-F921E74DC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0CEA6-DD89-4922-93F7-DC7F0DD80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13670-B2F6-4999-93C0-0D3FE56CF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EFF869-2C16-4A10-82C1-1185B220D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406A6-3A34-4526-999D-3DA6DDBB7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EEBEC-35CB-4353-96DB-BECE07BD7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2CC9-61A6-4F00-B51A-7DB5461F8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34E03-8E66-4520-883D-53B55AA2D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8BCAD-BF06-4FCD-90F6-8AD3E9B09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AE749-489E-4A9E-8D46-C857B1EE9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73C65-D83F-4B86-813F-06A9EEDC2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3D4B6-F573-410F-BB9A-E5432DDAF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4BD48-6BA1-4F27-BCB8-BFE896B39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E24F2-BE08-4DCB-96C1-00364E0EA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0AC26-0FF8-48B7-81F4-AB01DBCF6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FF028-ECD4-44D1-BDB5-7D6417C8A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D705C3-6CDB-4CBB-905D-61E76634E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7983-6F22-4841-B078-7778A9C04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37BA58-31E8-428A-87E1-70ECB1BA8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B75807-D738-408C-97F5-B6E46D816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BE92C1-9993-48B7-88AB-3EC03686A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AED0D-7F81-475D-B8C8-4F480BC91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8AAFAB-D0DD-4160-B720-628B437AC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F13AA1-B984-4DA0-BA73-7BE7B3E4B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0D77BC-CD2B-429E-AF49-D871BC900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3B62AF-314F-4939-8731-834A0199A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56C298-5B6F-45B0-8B8C-77B69308F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A3E3E0-1286-4626-8B2B-1D0C88F7D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D2F5-2D99-442E-8166-55977FCE4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F9EE29-A2E1-432A-902D-96B625F4C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608EF6-7FB0-4874-8EB6-E791113AD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6780BE-E5EF-4FC1-9575-59FA1131E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5F4EDF-101E-4D5A-AE22-0AF79BB13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CCF37D-D6D5-454A-9877-01F8F72FD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A57C88-2717-43A6-8022-E0B879DD6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5AEC51-FD89-4301-AE33-C24B22235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C536A2-EBD4-406F-8122-00E883F16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995C48-7041-4FDC-9737-CFA4B1813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F94836-3199-4EF2-B9E0-9A18B109D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81ED-BDE0-460A-AF10-139514013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D0EE7B-B0C5-452D-8C21-BD31E5ABB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792055-71D8-4BA4-A83E-3BEBC8C1F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950020-950A-4E01-A848-37AEDF33D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A92C0D-99DF-4B39-8C57-5D2AFB286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194730-50A7-46F6-8743-8FD76C54F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64C230-E071-4271-AD5C-F11181234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2E0167-B287-4A12-AA6A-8CC4E43BA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2D1E5F-05CE-43E7-A92B-845E105C7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9DEAEF-BFE8-4A7A-BB67-621E75C61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DDB1DA-A593-4AC0-BA70-8AE9DCA43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3382-EB32-49BC-B33A-EFEC2A5C7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762F08-39FA-4095-AFDD-1DC34791A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AE6F8D-C252-46F8-BAF4-6AA080FC2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33ED43-CCF0-45B9-915A-AB1CCE1DE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B31717-39B8-41D4-9ACF-BA0583237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FF29C8-499C-4397-831F-2B1737BF9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A04AE1-7A9F-4C25-B936-1AA0C7A4D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A955EB-D760-479E-B1AC-70087B6CA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2C8F78-F778-4A2F-BF34-226A36CD1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ECDEC5-C7EF-4284-B554-FAC1D797C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8937BF-47C8-4152-9A66-EFEDC335D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DCED-5C7E-41A6-9039-0A1F4C188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B96B45-34A8-4370-8A49-701BA6237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F99264-1092-4993-91C8-97F5DC962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6086F8-F46A-4B84-8FEE-37B89C63D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9A5BBC-C825-4356-8109-3059EF8B4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5DC7DA-AD33-43F1-933D-D89045636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5A9042-7C9B-4A52-9DD0-263BD4790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78713F-ED10-416D-9CBE-D81950773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FA39FA-8EEE-4C46-8CEE-1A4FAC16F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62285C-D455-4BFC-AABC-0E0691B6D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049BAE-361E-4FE1-99CF-A2660BF56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00BF2-45AD-4C6E-BD4F-F3CD662E93D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B4F72-E0B0-4B1D-ACD7-8A1059206AA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3517A-DA0D-4CD5-ACA8-A59D9006804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BB011-7F88-4338-BAF6-D62608786B5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9C329-12D8-4251-8AF2-BA1D94061D6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D84DD-DC20-43E0-A41E-E9D06C441F4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17822-26AD-4984-BA03-6EFE73778A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2F914-FCEF-442C-8EBA-101C728D312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F5A90-D34E-4879-A5A7-45C38FE86A8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B59EF-F056-406B-A560-582983ED8E6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E55F0-9FDD-4485-837E-9B64F28B667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73D19-7ADA-49F3-98CA-3EBC21BDA83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2F134-A8CE-4C24-94F1-AE86A43A0A6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AE0BA-17F6-4DAA-B95A-27516AC7E35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61AFA-7AD0-4C20-9105-36CD1F07C3B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E32D3-4CE1-4B9B-93E9-E3242750AF2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F92A1-B364-4CE6-BA62-0E322A620EF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E3858-9982-4B5D-8154-BAA7777D66A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5E1FE-A35E-4349-98F0-3BEEC78571C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45904-1524-41AE-850B-95ADEFA023B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BF3D6-CB35-4942-8077-14818D4A32A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BB5CE-7B0D-49A6-AAFC-9CEC91DAA00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95403-FD53-4DD7-B363-764CD250385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5E669-BE06-467E-96C3-F372AA0FAF3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2826D-DD56-40BB-B367-8F6A5C3803E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7D338-9257-47B3-A804-C71ABDBA3CE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A1E48-6089-4A4C-938E-9109D00C7F5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8DA8D-C955-43A1-B560-4DD93638DC3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5D7A3-D499-4214-8016-A98944C599D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8E077-7811-4939-B4E0-B0C12C18A8F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F7F17-227C-4600-BCF2-8C8CBD708DF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98AEC-540D-448E-8D0E-5180FF9EF86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69968-8DE4-4177-8057-D14BE9FB49C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EC5E5-A941-4422-8B61-C76FDFC844D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B148E-0A3F-46F7-A920-5FB9E7A19CC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BEA2E-628F-4EC4-8890-71B5727F61A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77235-F610-48ED-B6B7-036F30D36A7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995A4-86E9-4CC8-A697-8FA50E45DBE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4222A-241F-4EFF-8189-E67D56BA73D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6785E-A451-4902-9386-6C718438037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019240" y="1700280"/>
            <a:ext cx="5105520" cy="981000"/>
          </a:xfrm>
          <a:prstGeom prst="rect">
            <a:avLst/>
          </a:prstGeom>
          <a:ln w="0">
            <a:noFill/>
          </a:ln>
        </p:spPr>
      </p:pic>
      <p:pic>
        <p:nvPicPr>
          <p:cNvPr id="922" name="图片 28679" descr=""/>
          <p:cNvPicPr/>
          <p:nvPr/>
        </p:nvPicPr>
        <p:blipFill>
          <a:blip r:embed="rId2"/>
          <a:stretch/>
        </p:blipFill>
        <p:spPr>
          <a:xfrm>
            <a:off x="1209600" y="3205080"/>
            <a:ext cx="672480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4" name="图片 69633" descr=""/>
          <p:cNvPicPr/>
          <p:nvPr/>
        </p:nvPicPr>
        <p:blipFill>
          <a:blip r:embed="rId1"/>
          <a:stretch/>
        </p:blipFill>
        <p:spPr>
          <a:xfrm>
            <a:off x="257040" y="766800"/>
            <a:ext cx="8629920" cy="532440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2"/>
          <a:stretch/>
        </p:blipFill>
        <p:spPr>
          <a:xfrm>
            <a:off x="971640" y="3573360"/>
            <a:ext cx="4680000" cy="49392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3"/>
          <a:stretch/>
        </p:blipFill>
        <p:spPr>
          <a:xfrm>
            <a:off x="684360" y="4221000"/>
            <a:ext cx="467964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7" name="图片 68609" descr=""/>
          <p:cNvPicPr/>
          <p:nvPr/>
        </p:nvPicPr>
        <p:blipFill>
          <a:blip r:embed="rId1"/>
          <a:stretch/>
        </p:blipFill>
        <p:spPr>
          <a:xfrm>
            <a:off x="1128600" y="1125360"/>
            <a:ext cx="6886800" cy="2143440"/>
          </a:xfrm>
          <a:prstGeom prst="rect">
            <a:avLst/>
          </a:prstGeom>
          <a:ln w="0">
            <a:noFill/>
          </a:ln>
        </p:spPr>
      </p:pic>
      <p:pic>
        <p:nvPicPr>
          <p:cNvPr id="958" name="图片 68610" descr=""/>
          <p:cNvPicPr/>
          <p:nvPr/>
        </p:nvPicPr>
        <p:blipFill>
          <a:blip r:embed="rId2"/>
          <a:stretch/>
        </p:blipFill>
        <p:spPr>
          <a:xfrm>
            <a:off x="81000" y="3537000"/>
            <a:ext cx="8982000" cy="212400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3"/>
          <a:stretch/>
        </p:blipFill>
        <p:spPr>
          <a:xfrm>
            <a:off x="4788000" y="1557360"/>
            <a:ext cx="576000" cy="49356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4"/>
          <a:stretch/>
        </p:blipFill>
        <p:spPr>
          <a:xfrm>
            <a:off x="7596360" y="1557360"/>
            <a:ext cx="576000" cy="49356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5"/>
          <a:stretch/>
        </p:blipFill>
        <p:spPr>
          <a:xfrm>
            <a:off x="4427640" y="2147760"/>
            <a:ext cx="576000" cy="86364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6"/>
          <a:stretch/>
        </p:blipFill>
        <p:spPr>
          <a:xfrm>
            <a:off x="7524720" y="2147760"/>
            <a:ext cx="576360" cy="86364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7"/>
          <a:stretch/>
        </p:blipFill>
        <p:spPr>
          <a:xfrm>
            <a:off x="1763640" y="3860640"/>
            <a:ext cx="576360" cy="71928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8"/>
          <a:stretch/>
        </p:blipFill>
        <p:spPr>
          <a:xfrm>
            <a:off x="4356000" y="3789360"/>
            <a:ext cx="576360" cy="79200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9"/>
          <a:stretch/>
        </p:blipFill>
        <p:spPr>
          <a:xfrm>
            <a:off x="8028000" y="3875040"/>
            <a:ext cx="936720" cy="49392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10"/>
          <a:stretch/>
        </p:blipFill>
        <p:spPr>
          <a:xfrm>
            <a:off x="1590840" y="4811760"/>
            <a:ext cx="936360" cy="49356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11"/>
          <a:stretch/>
        </p:blipFill>
        <p:spPr>
          <a:xfrm>
            <a:off x="5119560" y="4797360"/>
            <a:ext cx="936720" cy="49392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12"/>
          <a:stretch/>
        </p:blipFill>
        <p:spPr>
          <a:xfrm>
            <a:off x="8388360" y="4753080"/>
            <a:ext cx="68436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图片 60428" descr=""/>
          <p:cNvPicPr/>
          <p:nvPr/>
        </p:nvPicPr>
        <p:blipFill>
          <a:blip r:embed="rId1"/>
          <a:stretch/>
        </p:blipFill>
        <p:spPr>
          <a:xfrm>
            <a:off x="257040" y="804960"/>
            <a:ext cx="8629920" cy="524808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2"/>
          <a:stretch/>
        </p:blipFill>
        <p:spPr>
          <a:xfrm>
            <a:off x="3276720" y="2997360"/>
            <a:ext cx="576000" cy="49356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3"/>
          <a:stretch/>
        </p:blipFill>
        <p:spPr>
          <a:xfrm>
            <a:off x="7524720" y="299736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4"/>
          <a:stretch/>
        </p:blipFill>
        <p:spPr>
          <a:xfrm>
            <a:off x="3995640" y="3645000"/>
            <a:ext cx="1081080" cy="49356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5"/>
          <a:stretch/>
        </p:blipFill>
        <p:spPr>
          <a:xfrm>
            <a:off x="5867280" y="4235400"/>
            <a:ext cx="576360" cy="49392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6"/>
          <a:stretch/>
        </p:blipFill>
        <p:spPr>
          <a:xfrm>
            <a:off x="2340000" y="5530680"/>
            <a:ext cx="719280" cy="49392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7"/>
          <a:stretch/>
        </p:blipFill>
        <p:spPr>
          <a:xfrm>
            <a:off x="6877080" y="5516640"/>
            <a:ext cx="100800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0" name="图片 59410" descr=""/>
          <p:cNvPicPr/>
          <p:nvPr/>
        </p:nvPicPr>
        <p:blipFill>
          <a:blip r:embed="rId1"/>
          <a:stretch/>
        </p:blipFill>
        <p:spPr>
          <a:xfrm>
            <a:off x="614520" y="1238400"/>
            <a:ext cx="7914960" cy="438120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2"/>
          <a:stretch/>
        </p:blipFill>
        <p:spPr>
          <a:xfrm>
            <a:off x="2411280" y="2492280"/>
            <a:ext cx="1224000" cy="49392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3"/>
          <a:stretch/>
        </p:blipFill>
        <p:spPr>
          <a:xfrm>
            <a:off x="2268360" y="3759120"/>
            <a:ext cx="2016360" cy="49392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4"/>
          <a:stretch/>
        </p:blipFill>
        <p:spPr>
          <a:xfrm>
            <a:off x="2268360" y="5027760"/>
            <a:ext cx="64800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4" name="图片 58373" descr=""/>
          <p:cNvPicPr/>
          <p:nvPr/>
        </p:nvPicPr>
        <p:blipFill>
          <a:blip r:embed="rId1"/>
          <a:stretch/>
        </p:blipFill>
        <p:spPr>
          <a:xfrm>
            <a:off x="590400" y="1547640"/>
            <a:ext cx="7963200" cy="376272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2"/>
          <a:stretch/>
        </p:blipFill>
        <p:spPr>
          <a:xfrm>
            <a:off x="4716360" y="2205000"/>
            <a:ext cx="576360" cy="49392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3"/>
          <a:stretch/>
        </p:blipFill>
        <p:spPr>
          <a:xfrm>
            <a:off x="1476360" y="4048200"/>
            <a:ext cx="863640" cy="49356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4"/>
          <a:stretch/>
        </p:blipFill>
        <p:spPr>
          <a:xfrm>
            <a:off x="3203640" y="4033800"/>
            <a:ext cx="863640" cy="49392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5"/>
          <a:stretch/>
        </p:blipFill>
        <p:spPr>
          <a:xfrm>
            <a:off x="5003640" y="4091040"/>
            <a:ext cx="863640" cy="49356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6"/>
          <a:stretch/>
        </p:blipFill>
        <p:spPr>
          <a:xfrm>
            <a:off x="2627280" y="4738680"/>
            <a:ext cx="122400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图片 57352" descr=""/>
          <p:cNvPicPr/>
          <p:nvPr/>
        </p:nvPicPr>
        <p:blipFill>
          <a:blip r:embed="rId1"/>
          <a:stretch/>
        </p:blipFill>
        <p:spPr>
          <a:xfrm>
            <a:off x="295200" y="1481040"/>
            <a:ext cx="8553600" cy="389592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2"/>
          <a:stretch/>
        </p:blipFill>
        <p:spPr>
          <a:xfrm>
            <a:off x="5364000" y="2205000"/>
            <a:ext cx="576360" cy="49392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3"/>
          <a:stretch/>
        </p:blipFill>
        <p:spPr>
          <a:xfrm>
            <a:off x="3780000" y="4206960"/>
            <a:ext cx="57600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图片 56324" descr=""/>
          <p:cNvPicPr/>
          <p:nvPr/>
        </p:nvPicPr>
        <p:blipFill>
          <a:blip r:embed="rId1"/>
          <a:stretch/>
        </p:blipFill>
        <p:spPr>
          <a:xfrm>
            <a:off x="647640" y="2052720"/>
            <a:ext cx="7848720" cy="275256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2"/>
          <a:stretch/>
        </p:blipFill>
        <p:spPr>
          <a:xfrm>
            <a:off x="7164360" y="2060640"/>
            <a:ext cx="57636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图片 55300" descr=""/>
          <p:cNvPicPr/>
          <p:nvPr/>
        </p:nvPicPr>
        <p:blipFill>
          <a:blip r:embed="rId1"/>
          <a:stretch/>
        </p:blipFill>
        <p:spPr>
          <a:xfrm>
            <a:off x="271440" y="1109520"/>
            <a:ext cx="8601120" cy="463896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2"/>
          <a:stretch/>
        </p:blipFill>
        <p:spPr>
          <a:xfrm>
            <a:off x="4356000" y="177336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3"/>
          <a:stretch/>
        </p:blipFill>
        <p:spPr>
          <a:xfrm>
            <a:off x="1042920" y="5172120"/>
            <a:ext cx="57636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8" name="图片 54276" descr=""/>
          <p:cNvPicPr/>
          <p:nvPr/>
        </p:nvPicPr>
        <p:blipFill>
          <a:blip r:embed="rId1"/>
          <a:stretch/>
        </p:blipFill>
        <p:spPr>
          <a:xfrm>
            <a:off x="504720" y="1876320"/>
            <a:ext cx="8134560" cy="3105360"/>
          </a:xfrm>
          <a:prstGeom prst="rect">
            <a:avLst/>
          </a:prstGeom>
          <a:ln w="0">
            <a:noFill/>
          </a:ln>
        </p:spPr>
      </p:pic>
      <p:pic>
        <p:nvPicPr>
          <p:cNvPr id="949" name="图片 54277" descr=""/>
          <p:cNvPicPr/>
          <p:nvPr/>
        </p:nvPicPr>
        <p:blipFill>
          <a:blip r:embed="rId2"/>
          <a:stretch/>
        </p:blipFill>
        <p:spPr>
          <a:xfrm>
            <a:off x="871560" y="3021120"/>
            <a:ext cx="2333520" cy="1819080"/>
          </a:xfrm>
          <a:prstGeom prst="rect">
            <a:avLst/>
          </a:prstGeom>
          <a:ln w="0">
            <a:noFill/>
          </a:ln>
        </p:spPr>
      </p:pic>
      <p:pic>
        <p:nvPicPr>
          <p:cNvPr id="950" name="图片 54278" descr=""/>
          <p:cNvPicPr/>
          <p:nvPr/>
        </p:nvPicPr>
        <p:blipFill>
          <a:blip r:embed="rId3"/>
          <a:stretch/>
        </p:blipFill>
        <p:spPr>
          <a:xfrm>
            <a:off x="3544920" y="2963880"/>
            <a:ext cx="3162240" cy="1876320"/>
          </a:xfrm>
          <a:prstGeom prst="rect">
            <a:avLst/>
          </a:prstGeom>
          <a:ln w="0">
            <a:noFill/>
          </a:ln>
        </p:spPr>
      </p:pic>
      <p:pic>
        <p:nvPicPr>
          <p:cNvPr id="951" name="图片 54279" descr=""/>
          <p:cNvPicPr/>
          <p:nvPr/>
        </p:nvPicPr>
        <p:blipFill>
          <a:blip r:embed="rId4"/>
          <a:stretch/>
        </p:blipFill>
        <p:spPr>
          <a:xfrm>
            <a:off x="6905520" y="3051000"/>
            <a:ext cx="16671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2" name="图片 52231" descr=""/>
          <p:cNvPicPr/>
          <p:nvPr/>
        </p:nvPicPr>
        <p:blipFill>
          <a:blip r:embed="rId1"/>
          <a:stretch/>
        </p:blipFill>
        <p:spPr>
          <a:xfrm>
            <a:off x="299880" y="1238400"/>
            <a:ext cx="8544240" cy="4381200"/>
          </a:xfrm>
          <a:prstGeom prst="rect">
            <a:avLst/>
          </a:prstGeom>
          <a:ln w="0">
            <a:noFill/>
          </a:ln>
        </p:spPr>
      </p:pic>
      <p:pic>
        <p:nvPicPr>
          <p:cNvPr id="953" name="图片 52232" descr=""/>
          <p:cNvPicPr/>
          <p:nvPr/>
        </p:nvPicPr>
        <p:blipFill>
          <a:blip r:embed="rId2"/>
          <a:stretch/>
        </p:blipFill>
        <p:spPr>
          <a:xfrm>
            <a:off x="1681200" y="3390840"/>
            <a:ext cx="578160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8T08:21:49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